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D7A-8497-4795-826F-AF6A3C5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45D-7ED2-49EF-8D79-B7B7DDF5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8CF-6452-4F9B-BA15-D86B5D2E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E97-0ABA-4384-BAF5-515F5C13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8C9-920F-41F9-BB5A-688588D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CF3-B1F0-424E-8754-D025179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A3D-A0C9-471A-87E8-07B62D30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7D7-6F12-45BB-BA36-A833243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5CA-651D-4476-A97A-823B022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678-446F-40A3-B938-810A270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76A-9227-4E93-9D55-CD4E7A5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C54-C499-4055-B1B9-556A55D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AA0-621C-4AF7-9585-C3672F48B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Lausearvu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alusek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õiste (proposition). Arutlus jaotatakse lauseteks, millest igaüks on kas tõene või väär. Lausete omavahelised seosed määravad kogu arutluse kehtiv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kseeritud lausesümbolite tähestik (signatuu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sioonik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metatakse suvalist funk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. Lausearvutuse valemite väärtustus on aga funktsioon, mis annab kõigile valemitele väärtuse sõltuvalt konkreetsest interpretatsioon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äärtuseks interpretatsioon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1, siis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tõe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htesta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htib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) ning seda tähistataks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pidisel juhul öeldakse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 vää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Tõeväärtustabel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õeväärtustabel sisaldab lausearvutuse valemi kõikvõimalikke väärtustusi. Kui valemis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utujat, siis tabel koosneb 2</a:t>
            </a:r>
            <a:r>
              <a:rPr b="0" i="1" lang="et-E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st, et võimaldada arvutada valemi väärtust igasuguse muutujate väärtuste kombinatsiooni jaoks. Pikemate valemite puhul on mõistlik arvutada esmalt väiksemate alamvalemite tõeväärtuse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Lausearvutuse valemite liigit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üldkehtiv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to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tõe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em, kui see on tõene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mat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väär valem, kui see on väär kõigil lausemuutujate väärtustust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, kui see on tõene mingi väärtustuse korr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, kui see mingi väärtustuse puhul ei ole tõ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astuolu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autoloo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atav parajasti siis, ku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kehtestata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te hulga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hta öeldakse, et see tingib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g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äreld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istus 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sellest, e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järeldub 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k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järelduvus tühjast valemite hulgast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a mis loogiline tõesus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d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elt ekvivalentse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ähist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ui iga interpretatsio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ral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jasti siis, 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hk loogiline ekvivalents on sama, mi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i loogiline tõesu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ne ekvivalents on ekvivalentsiseos: ta on refleksiivne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ümmeetriline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g transitiivne (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ma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m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kui ma olen tark, siis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kui ma saan hea hinde, siis olen t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ma olen kas tark või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ma olen tark ja saan hea h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lisi tautoloogiaid lausearvut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ete asendamise omad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sieerimise omad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 ‌=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i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Normaalkuju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al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lausesü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on lõplik hulk litera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dis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iivne normaalkuju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s {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t-EE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on lõplik hulk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arkonjunktsio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teisendamine konjunktiivsele või disjunktiivsele normaalkujule (annab esialgse valemiga loogiliselt ekvivalentse valemi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id ära, kasutades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ed sisse ning kahekordsed eitused ära, kasutades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id või konjunktsioonid sisse, kasutade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dud kuju võib veel optimeerid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ut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sioone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listatud kolmanda seadust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uolu seadus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hikute seadus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moodustatakse uusi lauseid sidesõnade abil, lausearvutuses kasutatakse vastavalt lausearvutuse teht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k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õ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u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m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katsioo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i… si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vival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s ja ainult siis,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jasti s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les on tihti ka seoseid, mis ei ole lausearvutuse tehted (näiteks sidesõnad sest, enne kui, jne. …) Tähelepanu tuleb pöörata ka sellele, et kui… siis… ei vasta alati lausearvutuse teh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Lausearvutuse sünta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ähestik – lausesümbolid (proposition symb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muutuja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 tehete 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javahemär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searvutuse valemid on lausete hulk, mis defineeritakse induktiivs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õik lausesümbolid on valemid (atomaarvalem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ogilised konstandi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  <a:ea typeface="Arial"/>
              </a:rPr>
              <a:t> 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(tõene)  j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väär) on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, siis on ka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va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alemid, siis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ja (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) on samuti valem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uid lausearvutuse valemeid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mi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emas alamlausena esinev va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gilistel tehetel on fikseeritud prioriteedid, tänu millele on võimalik sulgude hulka valemites vähendada (kahanevas järjekorra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ge vähendada võimaldab ka assotsiatiivsusreegel, mis kehtib konju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siooni ja disjunktsiooni ja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Lausearvutuse semantik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kareeglid ütlevad, kuida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mvalemite tõeväärtuste põhjal määrata kogu valemi tõeväärtus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u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usearvutuse valem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ga lausemuutuja väärtuseks on kas tõene (T) või väär (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vää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mõlemad on tões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vähemalt üks valemitest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äär võ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õene parajasti siis, kui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õeväärtused on sam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49:50Z</dcterms:created>
  <dc:creator>Tiina Zingel</dc:creator>
  <dc:description/>
  <dc:language>en-US</dc:language>
  <cp:lastModifiedBy>Tiina Zingel</cp:lastModifiedBy>
  <dcterms:modified xsi:type="dcterms:W3CDTF">2006-03-31T12:21:54Z</dcterms:modified>
  <cp:revision>3</cp:revision>
  <dc:subject/>
  <dc:title>Rakendusliku loogika süvakursus</dc:title>
</cp:coreProperties>
</file>